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155-34F7-4B1F-82C9-C05B2AE1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0E1-042A-4BED-B465-90D37595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DC8-F23A-4D90-AD3C-877E2A2A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7C0-1CB0-4664-8120-F34B5E7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01AA-DF45-45D9-A2CB-32FF4F7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7BBD-08DB-4689-BC28-825963A8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8D50-DEA3-4148-B692-22761AF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63C-703C-4881-90F1-ED4C20EB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7F55-1086-4555-A486-BB3C4052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55D5-696E-4044-890B-BA6348E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A478-DA75-48DE-A441-79924AA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41B-26EF-48B8-9353-6323A1F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DD6-BE2A-4372-A539-A36CC8F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3233-1E40-4CBD-8A26-E129693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F0B1-E90A-4A9D-ACAA-F4589B6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5BF-31AB-4F46-AD46-31599FBC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6FF3-95B4-4652-AF48-B068DAD9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0F25-8DD5-4CC5-8DEF-82E73FB1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FB48-586B-4C21-8AA5-FC56FEA5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880D-E0E0-4422-B3D3-DDB66161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63C9-03FD-419C-9299-A09C9AC6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F575-4ABB-4C1D-B89B-B811FC8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88F-3428-43F9-87EE-F1A1EBD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B130-4766-4D75-A94C-69EEB393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40A6-A00C-4F19-BED8-2E3A6C2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A89C-135E-435C-931E-D36B009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1983-784C-4EC7-A987-6EE9142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424C-716F-460F-BFBE-77BF713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E3D2-62A5-4693-B2DE-8FBFC4D0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C54C-84D4-4442-9403-432A83A2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6CBE-BD6D-4F27-A963-252DFF37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AD4B-B442-411F-A0DB-3DA7F57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B5F6-2C92-4B4C-9AFD-8A8741D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496-26DC-4E82-BD57-294AD91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6543-87AE-4427-80C3-DD606A20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A0F0-8E61-427A-B0B2-37FA03CA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4FBD-DE03-4C42-9DC1-023658A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B54A-0C1C-48D8-869E-E0D0C73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873D-D30E-4334-B20A-8D59BB3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99DC-85F0-4DE8-A43E-DD22E2E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275F-9271-4D62-89D0-1BB7D119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264D-E1D5-4167-87D9-2F58538C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A0CB-850E-4EB9-B121-68932B72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AE97-1203-467A-8EAC-3A70A37D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F59-3908-4A7C-8430-E98C65F8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2268-A6CE-4D02-9BC5-DC4D9CF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8D7A5-FE00-4FA4-A1B8-63994C44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2440-A11E-4F2A-AD35-146AE61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E0BF-9DB5-4355-9B0A-DBC8C88B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4C6F-EDBB-4AFE-BCBB-C631505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5579-26A4-4853-9570-D36F051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F41F-939D-4386-A615-1565D48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B8D4-0997-48E0-8085-BC0160E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39451-2AC9-408F-AB97-5923D4F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4B16-94A1-45E1-9C93-571D4079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118-6DCE-40FF-A09E-49C8DC6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294A-CA40-4DC9-A55D-469A5F0D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8301-4AC8-45C4-82E5-630CCBC9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DBD6-4569-4DAD-99F2-86857C1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065A-ED2D-4F5A-B48D-ACDA72E9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925C-CA4C-4BA8-B066-A1AEF86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1E92-5FC4-4197-B1AC-791F37C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D261-D33B-4651-96E5-A852975B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D302-C083-4E3F-BE8D-6F3D4EE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140F-9508-4DBC-8CAE-F56A80F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4DB0-1D6A-4C44-AA25-583D94D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399-5BCD-4A75-B174-15ECC0C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F6D3-280F-44B1-862C-88B3936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2ABF-7824-43C8-BC9C-D68B2647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09C9-0E15-45A2-81A2-D58142CD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5257F-2A4A-40DD-919F-1A24E990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D035B-49B3-4035-8700-499F8DF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7248-36AD-47D5-88FB-C418C60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A8405-DBE8-4F5D-A989-F038AE3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E45A-18D2-4CA8-8C83-2D27FED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2E3A-60E6-429D-A766-F7B8117F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11D3-CC78-4E7C-88F1-553D4C3D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18F-BFE0-41EB-837A-7DBF831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C58E-1250-4800-AD44-6535610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DF8B-DE0E-43CE-950D-7B587F9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88EE-3B45-47C7-B340-FEFF35E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386F-526B-4714-A227-0D7485AB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8EC8-0800-42C5-B110-3E5DD208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332-F7FE-4730-9A66-7084AD5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340DF-F6A0-43EB-9A3B-DCF5A00ED63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A9CBA-1D0B-4951-9FF8-55FF0BB6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18D13-2E4D-477C-8B92-3CE48149A15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0CA1C-C273-449D-8B16-966B3437D63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9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79E68-926C-45E3-B304-CC72517B05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CEE5F-1EF1-49DF-A476-A7983F624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85AFA-4D98-438E-A187-8D71D99D199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8AEF5-A1FA-44B3-B648-C5552B3F7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D4589-B4B7-4674-B516-DBF4234CF04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293A7-4C92-4E22-B06E-1BA737798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CF799-FD17-4B6B-B4BF-3EA0059D9F00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742CE-0D94-4F8E-8715-99DA7F86589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4E139-A371-4794-BDFF-42CC557281F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333B6-69B4-45FC-8E59-F9EBD25C569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#/watch?V=CQ0M4HvZSVU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com/imgres?imgurl=http://www.orau.org/ptp/collection/consumer%20products/fertilizer.jpg&amp;imgrefurl=http://www.orau.org/ptp/collection/consumer%20products/fertilizer.htm&amp;usg=__Ab3BMFvpcfxcLWLc8yBVXm0TXC0=&amp;h=571&amp;w=400&amp;sz=60&amp;hl=en&amp;start=3&amp;zoom=1&amp;um=1&amp;itbs=1&amp;tbnid=Y-Lllr88x8P_iM:&amp;tbnh=134&amp;tbnw=94&amp;prev=/images?q=fertilizer&amp;um=1&amp;hl=en&amp;safe=active&amp;rlz=1R2ADRA_enUS377&amp;tbs=isch:1&amp;ei=hbFSTcXZDMTcgQffrtmbCA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com/imgres?imgurl=http://www.minnehahacreek.org/images/fertilizer_002.jpg&amp;imgrefurl=http://www.minnehahacreek.org/ManagingWateronYourProperty.php&amp;usg=__s4nYl3j9FdWRLIWCnvSh2PGT7j0=&amp;h=700&amp;w=535&amp;sz=49&amp;hl=en&amp;start=12&amp;zoom=1&amp;um=1&amp;itbs=1&amp;tbnid=qp_uuMkAplAqdM:&amp;tbnh=140&amp;tbnw=107&amp;prev=/images?q=fertilizer&amp;um=1&amp;hl=en&amp;safe=active&amp;rlz=1R2ADRA_enUS377&amp;tbs=isch:1&amp;ei=hbFSTcXZDMTcgQffrtmbCA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Agricultur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y: Aleela Bov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nnis Mceach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Works Cited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no-till-credit.ca/no-till_farming.ph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blurtit.com/q8008231.htm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netstate.com/economy/pa_economy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youtube.com/watch?v=VbjX3xbiFa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ennsylvania</a:t>
            </a:r>
            <a:r>
              <a:rPr b="0" lang="ja-JP" sz="4200" spc="-1" strike="noStrike">
                <a:solidFill>
                  <a:srgbClr val="ff5c9c"/>
                </a:solidFill>
                <a:latin typeface="Century Gothic"/>
              </a:rPr>
              <a:t>’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s Main Crop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egetab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ean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bb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shroom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otato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rui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pple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p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omato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each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6" descr="potatoes112"/>
          <p:cNvPicPr/>
          <p:nvPr/>
        </p:nvPicPr>
        <p:blipFill>
          <a:blip r:embed="rId1"/>
          <a:stretch/>
        </p:blipFill>
        <p:spPr>
          <a:xfrm>
            <a:off x="3809880" y="20574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eaches"/>
          <p:cNvPicPr/>
          <p:nvPr/>
        </p:nvPicPr>
        <p:blipFill>
          <a:blip r:embed="rId2"/>
          <a:stretch/>
        </p:blipFill>
        <p:spPr>
          <a:xfrm>
            <a:off x="6553080" y="2057400"/>
            <a:ext cx="2590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 till farming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3000" y="11430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ay of growing crops without plowing/turning soil before plan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ents CO2 un the soil from being releas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aves organic mat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ents eros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youtube.com/#/watch?V=CQ0M4HvZSV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5" descr="conservation-agriculture-2"/>
          <p:cNvPicPr/>
          <p:nvPr/>
        </p:nvPicPr>
        <p:blipFill>
          <a:blip r:embed="rId2"/>
          <a:stretch/>
        </p:blipFill>
        <p:spPr>
          <a:xfrm>
            <a:off x="4572000" y="21337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raditional/Organic farming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440"/>
            <a:ext cx="403848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es not use any fertilizers or pesticid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s the emission of greenhouse gases such as; Methane, NO2, and CFC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rows many types of crops to replenish the soil with fertilizer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6" descr="pesticide+free+sign"/>
          <p:cNvPicPr/>
          <p:nvPr/>
        </p:nvPicPr>
        <p:blipFill>
          <a:blip r:embed="rId1"/>
          <a:stretch/>
        </p:blipFill>
        <p:spPr>
          <a:xfrm>
            <a:off x="457200" y="4222800"/>
            <a:ext cx="4038480" cy="2635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AA000307"/>
          <p:cNvPicPr/>
          <p:nvPr/>
        </p:nvPicPr>
        <p:blipFill>
          <a:blip r:embed="rId2"/>
          <a:stretch/>
        </p:blipFill>
        <p:spPr>
          <a:xfrm>
            <a:off x="4495680" y="422280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sustainable-nutrient-management-crops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316" name="Title 1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04920" y="205704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the practice of using fertilizers wisely for optimum economic benefit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rmers also want to minimize impact on the environ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045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stly phosphates and nitrates chemic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t foods, which may be either liquid or granular, used to make soil more ferti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improves plant growth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ertilizer to make lawns, crops and garden grow stronger and fas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ANd9GcSTuuXZmiJjhfhcOjxoNPMzW7ynf1S8xj8hIRqMOybKtww0kCFf2FdKU3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5257800"/>
            <a:ext cx="2057400" cy="1552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ANd9GcRAdymPtpD4j3vC6XZ8akcvi-qLbhVfcAgs0M3N3jt8xAnAZtvfVtkr7c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4495680"/>
            <a:ext cx="1828800" cy="2314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ANd9GcTQrujQzTfeeu8LTnVpvrByaPlxyyuq4rMFG40U4j5ceSbZn2Gdb7AhxmQ"/>
          <p:cNvPicPr/>
          <p:nvPr/>
        </p:nvPicPr>
        <p:blipFill>
          <a:blip r:embed="rId6"/>
          <a:stretch/>
        </p:blipFill>
        <p:spPr>
          <a:xfrm>
            <a:off x="3809880" y="5257800"/>
            <a:ext cx="2210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835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2286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you use too much of the fertilizer can leak into the groundwater and surface water through run off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igh nitrates have been identified in some groundwater supplies in Alabam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ive phosphates in lakes and streams could create water quality proble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6934320" y="47242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0" y="5029200"/>
            <a:ext cx="347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hane is a greenhouse g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reen house gasses contributes to the greenhouse effect by absorbing infrared radi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</a:t>
            </a:r>
            <a:r>
              <a:rPr b="0" lang="ja-JP" sz="30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 produced from decomposing plant material and poop (and trash too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s a technology that captures methane from animal feces and can be used to produce electricit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0" y="1882800"/>
            <a:ext cx="9144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2:30:36Z</dcterms:created>
  <dc:creator>PA Department of Education Classrooms for the Future</dc:creator>
  <dc:description/>
  <dc:language>en-US</dc:language>
  <cp:lastModifiedBy>dhakim</cp:lastModifiedBy>
  <dcterms:modified xsi:type="dcterms:W3CDTF">2012-03-30T16:41:31Z</dcterms:modified>
  <cp:revision>13</cp:revision>
  <dc:subject/>
  <dc:title>Slide 1</dc:title>
</cp:coreProperties>
</file>